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806C-63BD-4A8E-9E64-7671F2B3D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C23F-49D7-46DF-AC47-A3D818B7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D397-8CC5-4611-9592-8978300A8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5EF3-9C93-4631-989C-7FB637465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BC94-DFB1-47C8-83B0-41FE78AC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522F-7B44-47A7-A328-1E42BF0F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F144-FABA-447E-8546-1D8B3811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77B6-F7BD-42EF-A1D0-275B2F64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41FF-B305-4CEA-8E82-F0391F6E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6CBA-A440-48E9-8388-09F00A7F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4A40-C662-4F28-84AC-B2E1F598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46F0-3573-46B1-BC74-7DE490E7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932B-9BB7-4794-81B1-B7CE57BA3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09480" y="457200"/>
            <a:ext cx="4114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Lybia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05120" y="4724280"/>
            <a:ext cx="6248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B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Tyler K , Cole 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9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ilway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0 k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way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otal: 83,200 km; paved :47,590 km; unpaved: 35,610 k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terway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rts and harbor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l Khums, Banghazi, Darnah, Marsa al Burayqah, Misratah, Ra's Lanuf, Tobruk, Tripoli, Zuwarah. Airports: 136 (200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Map of Libya"/>
          <p:cNvPicPr/>
          <p:nvPr/>
        </p:nvPicPr>
        <p:blipFill>
          <a:blip r:embed="rId1"/>
          <a:stretch/>
        </p:blipFill>
        <p:spPr>
          <a:xfrm>
            <a:off x="1066680" y="0"/>
            <a:ext cx="6766200" cy="75438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area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679,358 sq mi (1,759,540 sq k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-304920" y="1828800"/>
            <a:ext cx="7315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6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 Land</a:t>
            </a:r>
            <a:endParaRPr b="0" lang="en-US" sz="4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overn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litary dictatorshi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ief of Stat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l. Muammar al-Qaddafi (196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ief of Stat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l. Muammar al-Qaddafi (196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ov cont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i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nrovia, 1,348,9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pulation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6,173,57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fe expectan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77.0 density per sq km: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etary un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ibyan din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rabic, Italian, and English widely understood in major c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hnicity/r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rber and Arab 97%, Greeks, Maltese, Italians, Egyptians, Pakistanis, Turks, Indians, Tunis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ig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lam (Sunni) 97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ional Holid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volution Day, September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teracy r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83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employment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30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able land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ricultur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eat, barley, olives, dates, citrus, vegetables, peanuts, soybea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ort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rude oil, refined petroleum products, natural g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or force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.64 million; agriculture 17%, industry 23%, services 60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363320" cy="68817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chinery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ransport equipment, semi-finished goods, food, consumer produc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jor trading partner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taly, Germany, Spain, Turkey, France, South Korea, UK, Tuni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unicat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bile cellul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0,0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dio broadcast station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M 16, FM 3, shortwav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dio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.35 mill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unication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levision broadcast station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2 (plus one low-power repe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levision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730,0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net Service Providers (ISPs)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net user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9:18:35Z</dcterms:created>
  <dc:creator>colesgoodling</dc:creator>
  <dc:description/>
  <dc:language>en-US</dc:language>
  <cp:lastModifiedBy>colesgoodling</cp:lastModifiedBy>
  <dcterms:modified xsi:type="dcterms:W3CDTF">2009-02-24T19:27:44Z</dcterms:modified>
  <cp:revision>4</cp:revision>
  <dc:subject/>
  <dc:title>Slide 1</dc:title>
</cp:coreProperties>
</file>